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AD2-E807-4E27-B5F3-DB681C4C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1FC-A110-4767-ABD8-5AC8A1A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6A9-7528-47BB-9D99-DF35CBD8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FA4-A940-4656-9504-287B5FE0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11C0-EB74-4F9D-97CF-AA26FB40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BF4-F9FD-40C7-A61F-65383BF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A93-0AAC-4D6A-84D8-6389072B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3B9-DDD8-47FB-88D0-B1C8E5B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C750-31D8-479F-9927-1AC8EEE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CC68-EF11-44EB-A978-56D7A5F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90CD-E55D-4DBC-BD74-4B662B1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A2B-FCE5-4484-8DF0-810F06E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5B2D-BF44-4070-A129-32C1DE8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DDBF-A8FC-42C8-A54A-D81C419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3AD-3939-44EC-A3AA-AC620DB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933D-4930-4ACB-869E-7F6EAD7A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AD97-1B4F-4E9B-AD15-9CD1DF25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3B7-5868-44C9-8601-FDE3F7D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A48-223D-46E3-B551-942D603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3A1-588F-45E8-8CBC-6A4EBEE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C26-6111-45A8-B5F2-15DAB96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DC5-C86B-43DB-A08A-E3BDBBD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AEE-B1E1-4406-9464-D48E6D0F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B99-DAD5-4893-8B88-6E7E8BF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BF6-98E3-4BDD-B225-ABB69B83E60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C1A-42F0-4AA2-800F-3CF2CB3EB05D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95600" y="404640"/>
            <a:ext cx="16009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饮酒民俗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2916360" cy="2332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2637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德容桂“饮灯酒”的风俗在清代开始流行。“饮灯酒”每年正月初四到十六期间举行，最初的目的是祭祀社神（土地），祈祷五谷丰登，风调雨顺，事业兴旺；在酒席间还有“投灯”的环节，即是将制作好的花灯冠以好意头名称（如“添丁发财”、“一帆风顺”、“东成西就”）由乡亲们竞投。“饮灯酒”这样的活动特别有家乡的味道，人人都有强烈的故乡归属感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067280" y="1341360"/>
            <a:ext cx="3124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饮灯酒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78000" y="14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过新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4280" y="148428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迎神拜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许多禁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1484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200" y="134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大人繁忙紧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8720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小孩兴奋快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3280" y="297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春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960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会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0" y="2032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有家乡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773360"/>
            <a:ext cx="214200" cy="3255840"/>
          </a:xfrm>
          <a:custGeom>
            <a:avLst/>
            <a:gdLst>
              <a:gd name="textAreaLeft" fmla="*/ 136800 w 214200"/>
              <a:gd name="textAreaRight" fmla="*/ 214560 w 214200"/>
              <a:gd name="textAreaTop" fmla="*/ 84600 h 3255840"/>
              <a:gd name="textAreaBottom" fmla="*/ 3171240 h 32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42240" y="3048120"/>
            <a:ext cx="28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家家户户轮流邀喝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581360"/>
            <a:ext cx="289080" cy="115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56320" y="4343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让出花厅供人请客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60480" y="47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：母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96920" y="55627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捧“八宝酒”为人助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理解主旨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5480" y="11732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民风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5480" y="353556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人情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44680" y="2514600"/>
            <a:ext cx="13993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故乡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6000" y="1484280"/>
            <a:ext cx="231480" cy="1868400"/>
          </a:xfrm>
          <a:custGeom>
            <a:avLst/>
            <a:gdLst>
              <a:gd name="textAreaLeft" fmla="*/ 0 w 231480"/>
              <a:gd name="textAreaRight" fmla="*/ 83520 w 231480"/>
              <a:gd name="textAreaTop" fmla="*/ 48600 h 1868400"/>
              <a:gd name="textAreaBottom" fmla="*/ 1819800 h 18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4290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133720"/>
            <a:ext cx="152280" cy="236196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26708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cc99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66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1880" y="52578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609588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cc9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3000" y="6156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自酿“八宝酒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8760" y="404640"/>
            <a:ext cx="2527560" cy="764280"/>
          </a:xfrm>
          <a:prstGeom prst="rect">
            <a:avLst/>
          </a:prstGeom>
          <a:solidFill>
            <a:srgbClr val="ff99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散文：形散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神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83200" y="692280"/>
            <a:ext cx="590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感受文中的风俗美、人情美，学会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己的视角看世界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理解作者通过叙述家乡的风土人情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达浓浓的思乡之情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理解散文“形散神聚”的特点，品味本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充满童趣而略带淡淡乡愁的文字，学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含蓄的笔法（细节）来表达深情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660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明确目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92160" y="61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913360"/>
            <a:ext cx="9144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066800" y="404640"/>
            <a:ext cx="1614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节研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760" y="1197000"/>
            <a:ext cx="8823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课是一篇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诗化的散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文中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许多细节写得很有情趣，表现出作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童年、对母亲、对家乡浓浓的感情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喜欢课文中的哪些语句，请找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与大家分享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38880" y="5019840"/>
            <a:ext cx="1905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338960" y="260280"/>
            <a:ext cx="140004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细节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细节描写呢？它在文章中有什么作用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8288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谓细节描写是指文学作品中对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人物动作、语言、神态、心理、外貌及自然景观、场面气氛等细小环节或情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描写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114800"/>
            <a:ext cx="75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动的细节描写，有助于折射广阔的生活画面，表现深刻的社会主题，丰富作品内涵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143000"/>
            <a:ext cx="71625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品读课文，欣赏精彩细节和语言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、你最喜欢文中的哪个人物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说出原因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、你最喜欢文中哪些语句？说出你喜欢的原因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71600" y="41911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Times New Roman"/>
              </a:rPr>
              <a:t>评析：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这段文字活泼生动，夸张中透着情趣，比喻中透着诙谐，字里行间流露出“我”对春酒的珍视。儿时的欢乐跃然纸上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7621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Arial"/>
              </a:rPr>
              <a:t>选段：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    “母亲给我在小酒杯底里只倒一点点，我端着、闻着，走来走去，有一次一不小心，跨门槛时跌了一跤，杯子捏在手里，酒却全洒在衣襟上了。抱着小花猫时，它直舔，舔完了就呼呼地睡觉。原来我的小花猫也是个酒仙呢！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09320" y="2971800"/>
            <a:ext cx="32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马当先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吃成个蜜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9560" y="4419720"/>
            <a:ext cx="32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小花猫也是个酒仙！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17660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节研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8640" y="1052640"/>
            <a:ext cx="54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中那个人物给你留下了深刻的印象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60480"/>
            <a:ext cx="9524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母亲：温柔慈爱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善良能干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热情好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9916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3600" y="3992400"/>
            <a:ext cx="2865600" cy="2865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88720" y="1981080"/>
            <a:ext cx="25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”：活泼可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23720" y="29718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乡人：淳朴厚道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280" y="4343400"/>
            <a:ext cx="341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阿标叔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热情好客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乐于助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460760" cy="6453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7880" y="1279440"/>
            <a:ext cx="4334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像树木花草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样，谁能没有一个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呢？我若能忘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，忘掉亲人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友，忘掉童年，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宁愿搁下笔，此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永不再写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琦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21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3360" y="40464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琦君题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196760" y="260280"/>
            <a:ext cx="154476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68600" y="981000"/>
            <a:ext cx="120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在异乡为异客，每逢佳节倍思亲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劝君更尽一杯酒，西出阳关无故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乡关何处是？烟波江上使人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风又绿江南岸，明月何时照我还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夕阳西下，断肠人在天涯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头望明月，低头思故乡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仍怜故乡水，万里送行舟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露从今夜白，月是故乡明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上升明月，天涯共此时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愿人长久，千里共婵娟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796000" y="3510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6068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62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849240" cy="449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0" y="260280"/>
            <a:ext cx="5099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Times New Roman"/>
              </a:rPr>
              <a:t>春 酒</a:t>
            </a:r>
            <a:endParaRPr b="0" lang="en-US" sz="17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9560" y="2362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琦君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03600" y="917640"/>
            <a:ext cx="514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      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台湾）余光中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                                        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                                长大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愁是一枚小小的邮票    乡愁是一张窄窄的船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在这头                            我在这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亲在那头                        新娘在那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                                      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来呵                                而现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愁是一方矮矮的坟墓    乡愁是一弯浅浅的海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在外头                            我在这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亲呵在里头                    大陆在那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914400"/>
            <a:ext cx="281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思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长大恋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悼念亡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念故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40200" y="914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幼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44360" y="15238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人的生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历、乡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55240" y="4800600"/>
            <a:ext cx="239364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华民族的乡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炎黄子孙的乡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9000" y="281952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蓄势、铺垫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88620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12193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15000" y="20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7240" y="335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年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28520" y="3354480"/>
            <a:ext cx="280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而如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到哪里去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我家乡的春酒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甜甜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带着母亲味道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哪怕是一指甲缝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66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105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76720" y="333360"/>
            <a:ext cx="201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 Unicode MS"/>
              </a:rPr>
              <a:t>春  酒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5400" y="981000"/>
            <a:ext cx="16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长大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回忆是一杯苦涩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酒杯盛满我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乡情与愁绪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5280" y="3354480"/>
            <a:ext cx="29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故乡的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过年的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游子心中醉人的酒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朋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出门在外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别忘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给自己斟一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人生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4320" y="981000"/>
            <a:ext cx="261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小时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过年是一杯甜甜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酒中蓄着我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幸福与娇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133720"/>
            <a:ext cx="796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节是表现人物性格的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细枝末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它属于情节的范畴；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细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描写往往只抓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人物的细小动作、简短的话语、细微的表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刻画人物，并不需要做过多的细致描写。 细致描写则是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描写得仔细、具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是从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表达方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来讲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35720" y="260280"/>
            <a:ext cx="140004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细节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4560" y="10666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45fd"/>
                </a:solidFill>
                <a:latin typeface="黑体"/>
                <a:ea typeface="黑体"/>
              </a:rPr>
              <a:t>细致描写   细节描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20600" y="1143000"/>
            <a:ext cx="528120" cy="532800"/>
            <a:chOff x="2820600" y="1143000"/>
            <a:chExt cx="528120" cy="532800"/>
          </a:xfrm>
        </p:grpSpPr>
        <p:sp>
          <p:nvSpPr>
            <p:cNvPr id="213" name=""/>
            <p:cNvSpPr/>
            <p:nvPr/>
          </p:nvSpPr>
          <p:spPr>
            <a:xfrm flipH="1">
              <a:off x="3036600" y="1143000"/>
              <a:ext cx="142920" cy="52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20600" y="1216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=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7920"/>
            <a:ext cx="891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名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潘希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浙江永嘉人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赴台湾，后定居美国。代表作品有散文集、小说集及儿童文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种，包括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细纱灯》、《桂花雨》、《三更有梦书当枕》、《千里怀人月在峰》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 《留予他年说梦痕》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烟愁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60280"/>
            <a:ext cx="2514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走近作者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703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2892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60640"/>
            <a:ext cx="63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琦君的散文，多写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童年记忆，母女之情，友伴之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她以中国传统温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敦厚的情怀，以细腻温婉的笔致，将这些营造成了一个艺术世界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4760" y="333360"/>
            <a:ext cx="418680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琦君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917—20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685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读准下面字音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676520"/>
            <a:ext cx="73152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枸杞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gŏu qĭ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薏仁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yì ré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门槛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k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ă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衣襟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jī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酬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hóu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谢       两颊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jiá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挑剔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tī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家醅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ē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煨炖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d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ù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凑齐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ò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8618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1447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838080"/>
            <a:ext cx="7315200" cy="36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华文隶书"/>
                <a:ea typeface="华文隶书"/>
              </a:rPr>
              <a:t> </a:t>
            </a:r>
            <a:r>
              <a:rPr b="0" lang="zh-CN" sz="48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 知 课 文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想一想 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、在这段最美好的记忆中，叙述了哪几个富有情趣的片段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、作者怀念的仅仅是家乡的春酒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文章围绕“家乡的味道”写 哪些片断？请你用简要的语言概括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41360" y="2177640"/>
            <a:ext cx="7315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农历新年里的种种风俗禁忌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新年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”一马当先地作为母亲的代表前往家家户户喝春酒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喝春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乡亲之间互相“起会”置办“会酒”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喝会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题为“春酒”，为什么要写农历新年里的种种风俗与禁忌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25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这样写与上文“还有个农家邀饮春酒的节目，再度引起高潮”相照应，突出了农历“春酒”、“酒会”在孩子们的心目中更富有情趣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105520"/>
            <a:ext cx="7010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作者怀念的仅仅是家乡的春酒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在文中主要通过春酒写故乡的风俗之美、人情之美，写自己对故乡亲友的怀念，对母亲的追思。文中流淌的是浓浓的思乡之情，是对一种让人难忘的生活的深情怀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847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546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本文题为《春酒》，作者怀念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仅仅是家乡的春酒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76280"/>
            <a:ext cx="251460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2400" y="11970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者写了儿时在故乡的几件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43800" y="3382920"/>
            <a:ext cx="1600200" cy="1461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14720" y="1916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过新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春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会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66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27664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005360"/>
            <a:ext cx="231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者为什么要选择这几件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写呢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91840" y="24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有家乡味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21337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0840" y="26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思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7:19:59Z</dcterms:created>
  <dc:creator>sjzx</dc:creator>
  <dc:description/>
  <dc:language>en-US</dc:language>
  <cp:lastModifiedBy>User</cp:lastModifiedBy>
  <dcterms:modified xsi:type="dcterms:W3CDTF">2011-06-09T01:24:20Z</dcterms:modified>
  <cp:revision>381</cp:revision>
  <dc:subject/>
  <dc:title>PowerPoint 演示文稿</dc:title>
</cp:coreProperties>
</file>